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7.wmf" ContentType="image/x-wmf"/>
  <Override PartName="/ppt/media/image20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8E7A8E-4DB2-4625-861E-99E42E9F221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989753-AB07-4D98-88D0-36B507EB6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0CD69F-F337-4FCC-A178-EEE4DF329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20B5DA-EC8D-45AA-9F1E-67898B1A4FD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3C407F-3595-4576-B4CB-202129FCD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D3F5F5-E6ED-4FD9-AA6F-E3E23AA30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E6A525-8568-464F-963A-EAA9D0963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1B220F-7E13-4935-9C70-400CD961F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BC7302-0E9C-4549-B304-FAD8D0CA2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9A99B9-CDAB-48A7-BE7D-021FEFB0B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48FA38-BC95-4DA0-A62F-7AC7A4F1A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51926E-C514-4BC2-8B2B-AA456A1F0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  <a:ea typeface="Arial Unicode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  <a:ea typeface="Arial Unicode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2728FAD-C7B1-444F-9B40-C7AC6733DEAD}" type="slidenum">
              <a:rPr b="0" lang="ru-RU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im6-tub-ru.yandex.net/i?id=181994595-22-72" TargetMode="External"/><Relationship Id="rId2" Type="http://schemas.openxmlformats.org/officeDocument/2006/relationships/hyperlink" Target="http://www.fresher.ru/images9/etot-bezumno-realnyj-mir-7/19.jpg" TargetMode="External"/><Relationship Id="rId3" Type="http://schemas.openxmlformats.org/officeDocument/2006/relationships/hyperlink" Target="http://im5-tub-ru.yandex.net/i?id=198189740-15-72" TargetMode="External"/><Relationship Id="rId4" Type="http://schemas.openxmlformats.org/officeDocument/2006/relationships/hyperlink" Target="http://im0-tub-ru.yandex.net/i?id=198174398-09-72&amp;n=21" TargetMode="External"/><Relationship Id="rId5" Type="http://schemas.openxmlformats.org/officeDocument/2006/relationships/hyperlink" Target="http://im2-tub-ru.yandex.net/i?id=77294039-00-72" TargetMode="External"/><Relationship Id="rId6" Type="http://schemas.openxmlformats.org/officeDocument/2006/relationships/hyperlink" Target="http://im7-tub-ru.yandex.net/i?id=368241887-16-72&amp;n=21" TargetMode="External"/><Relationship Id="rId7" Type="http://schemas.openxmlformats.org/officeDocument/2006/relationships/hyperlink" Target="http://www.chtivo.ru/getpic3d/16775388/350/1653033.jpg" TargetMode="External"/><Relationship Id="rId8" Type="http://schemas.openxmlformats.org/officeDocument/2006/relationships/hyperlink" Target="http://im7-tub-ru.yandex.net/i?id=127347545-19-72" TargetMode="External"/><Relationship Id="rId9" Type="http://schemas.openxmlformats.org/officeDocument/2006/relationships/hyperlink" Target="http://yandex.ru/yandsearch?text=WILLIAM++BLAKE+&amp;lr=20192" TargetMode="External"/><Relationship Id="rId10" Type="http://schemas.openxmlformats.org/officeDocument/2006/relationships/hyperlink" Target="http://yandex.ru/yandsearch?text=WILLIAM++BLAKE+&amp;lr=20192" TargetMode="External"/><Relationship Id="rId11" Type="http://schemas.openxmlformats.org/officeDocument/2006/relationships/hyperlink" Target="http://yandex.ru/yandsearch?text=WILLIAM++BLAKE+&amp;lr=20192" TargetMode="External"/><Relationship Id="rId12" Type="http://schemas.openxmlformats.org/officeDocument/2006/relationships/hyperlink" Target="http://yandex.ru/yandsearch?text=WILLIAM++BLAKE+&amp;lr=20192" TargetMode="External"/><Relationship Id="rId13" Type="http://schemas.openxmlformats.org/officeDocument/2006/relationships/hyperlink" Target="http://yandex.ru/yandsearch?text=WILLIAM++BLAKE+&amp;lr=20192" TargetMode="External"/><Relationship Id="rId14" Type="http://schemas.openxmlformats.org/officeDocument/2006/relationships/hyperlink" Target="http://img-fotki.yandex.ru/get/5507/praid-ss.0/0_59b4a_afc9a958_XL" TargetMode="External"/><Relationship Id="rId15" Type="http://schemas.openxmlformats.org/officeDocument/2006/relationships/hyperlink" Target="http://samolit.com/images/ArticleFiles/709/709_rudyardkipling.jpg" TargetMode="External"/><Relationship Id="rId16" Type="http://schemas.openxmlformats.org/officeDocument/2006/relationships/hyperlink" Target="http://www.kazved.ru/Thumbnail.aspx?w=670&amp;img=/uploadimg/178338_30315_biblio.jpg" TargetMode="External"/><Relationship Id="rId17" Type="http://schemas.openxmlformats.org/officeDocument/2006/relationships/hyperlink" Target="http://www.kazved.ru/Thumbnail.aspx?w=670&amp;img=/uploadimg/178338_30315_biblio.jpg" TargetMode="External"/><Relationship Id="rId18" Type="http://schemas.openxmlformats.org/officeDocument/2006/relationships/hyperlink" Target="http://www.kazved.ru/Thumbnail.aspx?w=670&amp;img=/uploadimg/178338_30315_biblio.jpg" TargetMode="External"/><Relationship Id="rId19" Type="http://schemas.openxmlformats.org/officeDocument/2006/relationships/hyperlink" Target="http://im3-tub-ru.yandex.net/i?id=134279567-64-72" TargetMode="External"/><Relationship Id="rId20" Type="http://schemas.openxmlformats.org/officeDocument/2006/relationships/hyperlink" Target="http://im8-tub-ru.yandex.net/i?id=49424426-65-72" TargetMode="External"/><Relationship Id="rId21" Type="http://schemas.openxmlformats.org/officeDocument/2006/relationships/hyperlink" Target="http://yandex.ru/yandsearch?text=William+Wordsworth+&amp;lr=20192" TargetMode="External"/><Relationship Id="rId22" Type="http://schemas.openxmlformats.org/officeDocument/2006/relationships/hyperlink" Target="http://yandex.ru/yandsearch?text=William+Wordsworth+&amp;lr=20192" TargetMode="External"/><Relationship Id="rId23" Type="http://schemas.openxmlformats.org/officeDocument/2006/relationships/hyperlink" Target="http://yandex.ru/yandsearch?text=William+Wordsworth+&amp;lr=20192" TargetMode="External"/><Relationship Id="rId24" Type="http://schemas.openxmlformats.org/officeDocument/2006/relationships/hyperlink" Target="http://yandex.ru/yandsearch?text=William+Wordsworth+&amp;lr=20192" TargetMode="External"/><Relationship Id="rId25" Type="http://schemas.openxmlformats.org/officeDocument/2006/relationships/hyperlink" Target="http://yandex.ru/yandsearch?text=William+Wordsworth+&amp;lr=20192" TargetMode="External"/><Relationship Id="rId26" Type="http://schemas.openxmlformats.org/officeDocument/2006/relationships/hyperlink" Target="http://im4-tub-ru.yandex.net/i?id=393061638-18-72" TargetMode="External"/><Relationship Id="rId27" Type="http://schemas.openxmlformats.org/officeDocument/2006/relationships/hyperlink" Target="http://yandex.ru/yandsearch?text=William+Wordsworth+grave&amp;lr=20192" TargetMode="External"/><Relationship Id="rId28" Type="http://schemas.openxmlformats.org/officeDocument/2006/relationships/hyperlink" Target="http://yandex.ru/yandsearch?text=William+Wordsworth+grave&amp;lr=20192" TargetMode="External"/><Relationship Id="rId29" Type="http://schemas.openxmlformats.org/officeDocument/2006/relationships/hyperlink" Target="http://yandex.ru/yandsearch?text=William+Wordsworth+grave&amp;lr=20192" TargetMode="External"/><Relationship Id="rId30" Type="http://schemas.openxmlformats.org/officeDocument/2006/relationships/hyperlink" Target="http://yandex.ru/yandsearch?text=William+Wordsworth+grave&amp;lr=20192" TargetMode="External"/><Relationship Id="rId31" Type="http://schemas.openxmlformats.org/officeDocument/2006/relationships/hyperlink" Target="http://yandex.ru/yandsearch?text=William+Wordsworth+grave&amp;lr=20192" TargetMode="External"/><Relationship Id="rId32" Type="http://schemas.openxmlformats.org/officeDocument/2006/relationships/hyperlink" Target="http://im5-tub-ru.yandex.net/i?id=53043894-18-72" TargetMode="External"/><Relationship Id="rId3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ns1.dreamworlds.ru/uploads/posts/2010-12/1291749761_13664f3d7bb8.jpg" TargetMode="External"/><Relationship Id="rId2" Type="http://schemas.openxmlformats.org/officeDocument/2006/relationships/hyperlink" Target="http://im2-tub-ru.yandex.net/i?id=392000242-13-72" TargetMode="External"/><Relationship Id="rId3" Type="http://schemas.openxmlformats.org/officeDocument/2006/relationships/hyperlink" Target="http://im4-tub-ru.yandex.net/i?id=147393132-44-72&amp;n=21" TargetMode="External"/><Relationship Id="rId4" Type="http://schemas.openxmlformats.org/officeDocument/2006/relationships/hyperlink" Target="http://im5-tub-ru.yandex.net/i?id=199924277-04-72" TargetMode="External"/><Relationship Id="rId5" Type="http://schemas.openxmlformats.org/officeDocument/2006/relationships/hyperlink" Target="http://yandex.ru/yandsearch?text=Burns+Cottage+in+Alloway%25" TargetMode="External"/><Relationship Id="rId6" Type="http://schemas.openxmlformats.org/officeDocument/2006/relationships/hyperlink" Target="http://yandex.ru/yandsearch?text=Burns+Cottage+in+Alloway%25" TargetMode="External"/><Relationship Id="rId7" Type="http://schemas.openxmlformats.org/officeDocument/2006/relationships/hyperlink" Target="http://yandex.ru/yandsearch?text=Burns+Cottage+in+Alloway%25" TargetMode="External"/><Relationship Id="rId8" Type="http://schemas.openxmlformats.org/officeDocument/2006/relationships/hyperlink" Target="http://yandex.ru/yandsearch?text=Burns+Cottage+in+Alloway%25" TargetMode="External"/><Relationship Id="rId9" Type="http://schemas.openxmlformats.org/officeDocument/2006/relationships/hyperlink" Target="http://yandex.ru/yandsearch?text=Burns+Cottage+in+Alloway%25" TargetMode="External"/><Relationship Id="rId10" Type="http://schemas.openxmlformats.org/officeDocument/2006/relationships/hyperlink" Target="http://wpcontent.answcdn.com/wikipedia/commons/thumb/9/97/Robert_Burns_statue%25" TargetMode="External"/><Relationship Id="rId11" Type="http://schemas.openxmlformats.org/officeDocument/2006/relationships/hyperlink" Target="http://yandex.ru/yandsearch?text=Burns+House+in+Dumfries%25" TargetMode="External"/><Relationship Id="rId12" Type="http://schemas.openxmlformats.org/officeDocument/2006/relationships/hyperlink" Target="http://yandex.ru/yandsearch?text=Burns+House+in+Dumfries%25" TargetMode="External"/><Relationship Id="rId13" Type="http://schemas.openxmlformats.org/officeDocument/2006/relationships/hyperlink" Target="http://yandex.ru/yandsearch?text=Burns+House+in+Dumfries%25" TargetMode="External"/><Relationship Id="rId14" Type="http://schemas.openxmlformats.org/officeDocument/2006/relationships/hyperlink" Target="http://yandex.ru/yandsearch?text=Burns+House+in+Dumfries%25" TargetMode="External"/><Relationship Id="rId15" Type="http://schemas.openxmlformats.org/officeDocument/2006/relationships/hyperlink" Target="http://yandex.ru/yandsearch?text=Burns+House+in+Dumfries%25" TargetMode="External"/><Relationship Id="rId16" Type="http://schemas.openxmlformats.org/officeDocument/2006/relationships/hyperlink" Target="http://yandex.ru/yandsearch?text=Burns&apos;+monument+in+London&amp;lr=20192" TargetMode="External"/><Relationship Id="rId17" Type="http://schemas.openxmlformats.org/officeDocument/2006/relationships/hyperlink" Target="http://yandex.ru/yandsearch?text=Burns&apos;+monument+in+London&amp;lr=20192" TargetMode="External"/><Relationship Id="rId18" Type="http://schemas.openxmlformats.org/officeDocument/2006/relationships/hyperlink" Target="http://yandex.ru/yandsearch?text=Burns&apos;+monument+in+London&amp;lr=20192" TargetMode="External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wmf"/><Relationship Id="rId3" Type="http://schemas.openxmlformats.org/officeDocument/2006/relationships/image" Target="../media/image7.wmf"/><Relationship Id="rId4" Type="http://schemas.openxmlformats.org/officeDocument/2006/relationships/image" Target="../media/image7.wmf"/><Relationship Id="rId5" Type="http://schemas.openxmlformats.org/officeDocument/2006/relationships/image" Target="../media/image7.wmf"/><Relationship Id="rId6" Type="http://schemas.openxmlformats.org/officeDocument/2006/relationships/image" Target="../media/image7.wmf"/><Relationship Id="rId7" Type="http://schemas.openxmlformats.org/officeDocument/2006/relationships/image" Target="../media/image7.wmf"/><Relationship Id="rId8" Type="http://schemas.openxmlformats.org/officeDocument/2006/relationships/image" Target="../media/image7.wmf"/><Relationship Id="rId9" Type="http://schemas.openxmlformats.org/officeDocument/2006/relationships/image" Target="../media/image7.wmf"/><Relationship Id="rId10" Type="http://schemas.openxmlformats.org/officeDocument/2006/relationships/image" Target="../media/image7.wmf"/><Relationship Id="rId11" Type="http://schemas.openxmlformats.org/officeDocument/2006/relationships/image" Target="../media/image7.wmf"/><Relationship Id="rId12" Type="http://schemas.openxmlformats.org/officeDocument/2006/relationships/image" Target="../media/image7.wmf"/><Relationship Id="rId13" Type="http://schemas.openxmlformats.org/officeDocument/2006/relationships/image" Target="../media/image7.wmf"/><Relationship Id="rId1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image" Target="../media/image14.jpe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228600" y="380880"/>
            <a:ext cx="8686800" cy="185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        </a:t>
            </a:r>
            <a:br>
              <a:rPr sz="18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1280" y="1655640"/>
            <a:ext cx="86868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    </a:t>
            </a: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Закончив обучение в Оксфорде, Оскар поселился в Лондоне.  Благодаря своим хлестким высказываниям и манере поведения он стал желанным гостем в любом 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салоне: каждый мечтал о встрече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с этим «ирландским остроумцем». </a:t>
            </a: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Стремясь к признанию и 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известности, Уайльд согласился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читать лекции об эстетизме 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и отправился в турне в Америку. 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По прибытии на таможню он 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объявил, что ему 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«нечего декларировать, 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кроме своей гениальности».</a:t>
            </a:r>
            <a:br>
              <a:rPr sz="2600"/>
            </a:br>
            <a:br>
              <a:rPr sz="2200"/>
            </a:b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5851440" y="1655640"/>
            <a:ext cx="3219480" cy="504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69920" y="1407960"/>
            <a:ext cx="868680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     </a:t>
            </a: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16000" y="360360"/>
            <a:ext cx="4508280" cy="642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Мао Цзэдун известен как теоретик марксизма, военный стратег и революционер, ставший основателем Китайской Народной Республики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В 1968 году министр иностранных дел Пакистана подарил Мао несколько плодов манго. Мао разослал эти подарки университетам и фабрикам, что сделало плод манго символом уз между трудящимися и их лидером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4824360" y="503280"/>
            <a:ext cx="4240440" cy="604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-71280" y="0"/>
            <a:ext cx="9215280" cy="685800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3384720" y="4707000"/>
            <a:ext cx="7704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for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Your Attentio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457200" y="15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바탕"/>
                <a:ea typeface="바탕"/>
              </a:rPr>
              <a:t>Источник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57200" y="1295280"/>
            <a:ext cx="822960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Book Antiqua"/>
              </a:rPr>
              <a:t>Слайд 1 - 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Book Antiqua"/>
                <a:hlinkClick r:id="rId1"/>
              </a:rPr>
              <a:t>http://im6-tub-ru.yandex.net/i?id=181994595-22-72</a:t>
            </a:r>
            <a:r>
              <a:rPr b="0" lang="ru-RU" sz="1400" spc="-1" strike="noStrike">
                <a:solidFill>
                  <a:srgbClr val="000000"/>
                </a:solidFill>
                <a:latin typeface="Book Antiqua"/>
              </a:rPr>
              <a:t> - книга и пер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Book Antiqua"/>
              </a:rPr>
              <a:t>Слайд 2 - 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Book Antiqua"/>
                <a:hlinkClick r:id="rId2"/>
              </a:rPr>
              <a:t>http://www.fresher.ru/images9/etot-bezumno-realnyj-mir-7/19.jpg</a:t>
            </a:r>
            <a:r>
              <a:rPr b="0" lang="ru-RU" sz="1400" spc="-1" strike="noStrike">
                <a:solidFill>
                  <a:srgbClr val="000000"/>
                </a:solidFill>
                <a:latin typeface="Book Antiqua"/>
              </a:rPr>
              <a:t> - старинные книги; 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Book Antiqua"/>
                <a:hlinkClick r:id="rId3"/>
              </a:rPr>
              <a:t>http://im5-tub-ru.yandex.net/i?id=198189740-15-72</a:t>
            </a:r>
            <a:r>
              <a:rPr b="0" lang="ru-RU" sz="1400" spc="-1" strike="noStrike">
                <a:solidFill>
                  <a:srgbClr val="000000"/>
                </a:solidFill>
                <a:latin typeface="Book Antiqua"/>
              </a:rPr>
              <a:t> – фот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Book Antiqua"/>
              </a:rPr>
              <a:t>Слайд 3 - 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Book Antiqua"/>
                <a:hlinkClick r:id="rId4"/>
              </a:rPr>
              <a:t>http://im0-tub-ru.yandex.net/i?id=198174398-09-72&amp;n=21</a:t>
            </a:r>
            <a:r>
              <a:rPr b="0" lang="ru-RU" sz="1400" spc="-1" strike="noStrike">
                <a:solidFill>
                  <a:srgbClr val="000000"/>
                </a:solidFill>
                <a:latin typeface="Book Antiqua"/>
              </a:rPr>
              <a:t>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Book Antiqua"/>
              </a:rPr>
              <a:t>Слайд 4 - 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Book Antiqua"/>
                <a:hlinkClick r:id="rId5"/>
              </a:rPr>
              <a:t>http://im2-tub-ru.yandex.net/i?id=77294039-00-72</a:t>
            </a:r>
            <a:r>
              <a:rPr b="0" lang="ru-RU" sz="1400" spc="-1" strike="noStrike">
                <a:solidFill>
                  <a:srgbClr val="000000"/>
                </a:solidFill>
                <a:latin typeface="Book Antiqua"/>
              </a:rPr>
              <a:t>; 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Book Antiqua"/>
                <a:hlinkClick r:id="rId6"/>
              </a:rPr>
              <a:t>http://im7-tub-ru.yandex.net/i?id=368241887-16-72&amp;n=21</a:t>
            </a:r>
            <a:r>
              <a:rPr b="0" lang="ru-RU" sz="1400" spc="-1" strike="noStrike">
                <a:solidFill>
                  <a:srgbClr val="000000"/>
                </a:solidFill>
                <a:latin typeface="Book Antiqua"/>
              </a:rPr>
              <a:t>  - фото 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Book Antiqua"/>
                <a:hlinkClick r:id="rId7"/>
              </a:rPr>
              <a:t>http://www.chtivo.ru/getpic3d/16775388/350/1653033.jpg</a:t>
            </a:r>
            <a:r>
              <a:rPr b="0" lang="ru-RU" sz="1400" spc="-1" strike="noStrike">
                <a:solidFill>
                  <a:srgbClr val="000000"/>
                </a:solidFill>
                <a:latin typeface="Book Antiqua"/>
              </a:rPr>
              <a:t> - книг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Book Antiqua"/>
              </a:rPr>
              <a:t>Слайд 5 - 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Book Antiqua"/>
                <a:hlinkClick r:id="rId8"/>
              </a:rPr>
              <a:t>http://im7-tub-ru.yandex.net/i?id=127347545-19-72</a:t>
            </a:r>
            <a:r>
              <a:rPr b="0" lang="ru-RU" sz="1400" spc="-1" strike="noStrike">
                <a:solidFill>
                  <a:srgbClr val="000000"/>
                </a:solidFill>
                <a:latin typeface="Book Antiqua"/>
              </a:rPr>
              <a:t> – Байрон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Book Antiqua"/>
              </a:rPr>
              <a:t>Слайд 6 - 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Book Antiqua"/>
                <a:hlinkClick r:id="rId9"/>
              </a:rPr>
              <a:t>http://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Book Antiqua"/>
                <a:hlinkClick r:id="rId10"/>
              </a:rPr>
              <a:t>yandex.ru/yandsearch?text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Book Antiqua"/>
                <a:hlinkClick r:id="rId11"/>
              </a:rPr>
              <a:t>=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Book Antiqua"/>
                <a:hlinkClick r:id="rId12"/>
              </a:rPr>
              <a:t>WILLIAM++BLAKE+&amp;lr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Book Antiqua"/>
                <a:hlinkClick r:id="rId13"/>
              </a:rPr>
              <a:t>=20192</a:t>
            </a:r>
            <a:r>
              <a:rPr b="0" lang="ru-RU" sz="14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Book Antiqua"/>
              </a:rPr>
              <a:t>Слайд 7 - 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Book Antiqua"/>
                <a:hlinkClick r:id="rId14"/>
              </a:rPr>
              <a:t>http://img-fotki.yandex.ru/get/5507/praid-ss.0/0_59b4a_afc9a958_XL</a:t>
            </a:r>
            <a:r>
              <a:rPr b="0" lang="ru-RU" sz="1400" spc="-1" strike="noStrike">
                <a:solidFill>
                  <a:srgbClr val="000000"/>
                </a:solidFill>
                <a:latin typeface="Book Antiqua"/>
              </a:rPr>
              <a:t> - картинка книги; 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Book Antiqua"/>
                <a:hlinkClick r:id="rId15"/>
              </a:rPr>
              <a:t>http://samolit.com/images/ArticleFiles/709/709_rudyardkipling.jpg</a:t>
            </a:r>
            <a:r>
              <a:rPr b="0" lang="ru-RU" sz="1400" spc="-1" strike="noStrike">
                <a:solidFill>
                  <a:srgbClr val="000000"/>
                </a:solidFill>
                <a:latin typeface="Book Antiqua"/>
              </a:rPr>
              <a:t> - фот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Book Antiqua"/>
              </a:rPr>
              <a:t>Слайд 8 - 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Book Antiqua"/>
                <a:hlinkClick r:id="rId16"/>
              </a:rPr>
              <a:t>http://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Book Antiqua"/>
                <a:hlinkClick r:id="rId17"/>
              </a:rPr>
              <a:t>www.kazved.ru/Thumbnail.aspx?w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Book Antiqua"/>
                <a:hlinkClick r:id="rId18"/>
              </a:rPr>
              <a:t>=670&amp;img=/uploadimg/178338_30315_biblio.jpg</a:t>
            </a:r>
            <a:r>
              <a:rPr b="0" lang="ru-RU" sz="1400" spc="-1" strike="noStrike">
                <a:solidFill>
                  <a:srgbClr val="000000"/>
                </a:solidFill>
                <a:latin typeface="Book Antiqua"/>
              </a:rPr>
              <a:t> - фон; 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Book Antiqua"/>
                <a:hlinkClick r:id="rId19"/>
              </a:rPr>
              <a:t>http://im3-tub-ru.yandex.net/i?id=134279567-64-72</a:t>
            </a:r>
            <a:r>
              <a:rPr b="0" lang="ru-RU" sz="1400" spc="-1" strike="noStrike">
                <a:solidFill>
                  <a:srgbClr val="000000"/>
                </a:solidFill>
                <a:latin typeface="Book Antiqua"/>
              </a:rPr>
              <a:t> - фот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Book Antiqua"/>
              </a:rPr>
              <a:t>Слайд 9 - 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Book Antiqua"/>
                <a:hlinkClick r:id="rId20"/>
              </a:rPr>
              <a:t>http://im8-tub-ru.yandex.net/i?id=49424426-65-72</a:t>
            </a:r>
            <a:r>
              <a:rPr b="0" lang="ru-RU" sz="1400" spc="-1" strike="noStrike">
                <a:solidFill>
                  <a:srgbClr val="000000"/>
                </a:solidFill>
                <a:latin typeface="Book Antiqua"/>
              </a:rPr>
              <a:t> – фон; 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Book Antiqua"/>
                <a:hlinkClick r:id="rId21"/>
              </a:rPr>
              <a:t>http://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Book Antiqua"/>
                <a:hlinkClick r:id="rId22"/>
              </a:rPr>
              <a:t>yandex.ru/yandsearch?text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Book Antiqua"/>
                <a:hlinkClick r:id="rId23"/>
              </a:rPr>
              <a:t>=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Book Antiqua"/>
                <a:hlinkClick r:id="rId24"/>
              </a:rPr>
              <a:t>William+Wordsworth+&amp;lr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Book Antiqua"/>
                <a:hlinkClick r:id="rId25"/>
              </a:rPr>
              <a:t>=20192</a:t>
            </a:r>
            <a:r>
              <a:rPr b="0" lang="ru-RU" sz="1400" spc="-1" strike="noStrike">
                <a:solidFill>
                  <a:srgbClr val="000000"/>
                </a:solidFill>
                <a:latin typeface="Book Antiqua"/>
              </a:rPr>
              <a:t> – портре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Book Antiqua"/>
              </a:rPr>
              <a:t>Слайд 10 - 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Book Antiqua"/>
                <a:hlinkClick r:id="rId26"/>
              </a:rPr>
              <a:t>http://im4-tub-ru.yandex.net/i?id=393061638-18-72</a:t>
            </a:r>
            <a:r>
              <a:rPr b="0" lang="ru-RU" sz="1400" spc="-1" strike="noStrike">
                <a:solidFill>
                  <a:srgbClr val="000000"/>
                </a:solidFill>
                <a:latin typeface="Book Antiqua"/>
              </a:rPr>
              <a:t> – портрет; 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Book Antiqua"/>
                <a:hlinkClick r:id="rId27"/>
              </a:rPr>
              <a:t>http://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Book Antiqua"/>
                <a:hlinkClick r:id="rId28"/>
              </a:rPr>
              <a:t>yandex.ru/yandsearch?text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Book Antiqua"/>
                <a:hlinkClick r:id="rId29"/>
              </a:rPr>
              <a:t>=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Book Antiqua"/>
                <a:hlinkClick r:id="rId30"/>
              </a:rPr>
              <a:t>William+Wordsworth+grave&amp;lr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Book Antiqua"/>
                <a:hlinkClick r:id="rId31"/>
              </a:rPr>
              <a:t>=20192</a:t>
            </a:r>
            <a:r>
              <a:rPr b="0" lang="ru-RU" sz="1400" spc="-1" strike="noStrike">
                <a:solidFill>
                  <a:srgbClr val="000000"/>
                </a:solidFill>
                <a:latin typeface="Book Antiqua"/>
              </a:rPr>
              <a:t> – плита; 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Book Antiqua"/>
                <a:hlinkClick r:id="rId32"/>
              </a:rPr>
              <a:t>http://im5-tub-ru.yandex.net/i?id=53043894-18-72</a:t>
            </a:r>
            <a:r>
              <a:rPr b="0" lang="ru-RU" sz="1400" spc="-1" strike="noStrike">
                <a:solidFill>
                  <a:srgbClr val="000000"/>
                </a:solidFill>
                <a:latin typeface="Book Antiqua"/>
              </a:rPr>
              <a:t> - фон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457200" y="3808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Book Antiqua"/>
              </a:rPr>
              <a:t>Слайд 11 - 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Book Antiqua"/>
                <a:hlinkClick r:id="rId1"/>
              </a:rPr>
              <a:t>http://ns1.dreamworlds.ru/uploads/posts/2010-12/1291749761_13664f3d7bb8.jpg</a:t>
            </a:r>
            <a:r>
              <a:rPr b="0" lang="ru-RU" sz="1400" spc="-1" strike="noStrike">
                <a:solidFill>
                  <a:srgbClr val="000000"/>
                </a:solidFill>
                <a:latin typeface="Book Antiqua"/>
              </a:rPr>
              <a:t> - фон; 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Book Antiqua"/>
                <a:hlinkClick r:id="rId2"/>
              </a:rPr>
              <a:t>http://im2-tub-ru.yandex.net/i?id=392000242-13-72</a:t>
            </a:r>
            <a:r>
              <a:rPr b="0" lang="ru-RU" sz="1400" spc="-1" strike="noStrike">
                <a:solidFill>
                  <a:srgbClr val="000000"/>
                </a:solidFill>
                <a:latin typeface="Book Antiqua"/>
              </a:rPr>
              <a:t> – портре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Book Antiqua"/>
              </a:rPr>
              <a:t>Слайд 12 - 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Book Antiqua"/>
                <a:hlinkClick r:id="rId3"/>
              </a:rPr>
              <a:t>http://im4-tub-ru.yandex.net/i?id=147393132-44-72&amp;n=21</a:t>
            </a:r>
            <a:r>
              <a:rPr b="0" lang="ru-RU" sz="1400" spc="-1" strike="noStrike">
                <a:solidFill>
                  <a:srgbClr val="000000"/>
                </a:solidFill>
                <a:latin typeface="Book Antiqua"/>
              </a:rPr>
              <a:t> – портрет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Book Antiqua"/>
              </a:rPr>
              <a:t>Слайд 13 - 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Book Antiqua"/>
                <a:hlinkClick r:id="rId4"/>
              </a:rPr>
              <a:t>http://im5-tub-ru.yandex.net/i?id=199924277-04-72</a:t>
            </a:r>
            <a:r>
              <a:rPr b="0" lang="ru-RU" sz="1400" spc="-1" strike="noStrike">
                <a:solidFill>
                  <a:srgbClr val="000000"/>
                </a:solidFill>
                <a:latin typeface="Book Antiqua"/>
              </a:rPr>
              <a:t> – портре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Book Antiqua"/>
              </a:rPr>
              <a:t>Слайд 14 - 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Book Antiqua"/>
                <a:hlinkClick r:id="rId5"/>
              </a:rPr>
              <a:t>http://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Book Antiqua"/>
                <a:hlinkClick r:id="rId6"/>
              </a:rPr>
              <a:t>yandex.ru/yandsearch?text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Book Antiqua"/>
                <a:hlinkClick r:id="rId7"/>
              </a:rPr>
              <a:t>=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Book Antiqua"/>
                <a:hlinkClick r:id="rId8"/>
              </a:rPr>
              <a:t>Burns+Cottage+in+Alloway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Book Antiqua"/>
                <a:hlinkClick r:id="rId9"/>
              </a:rPr>
              <a:t>%</a:t>
            </a:r>
            <a:r>
              <a:rPr b="0" lang="ru-RU" sz="1400" spc="-1" strike="noStrike">
                <a:solidFill>
                  <a:srgbClr val="000000"/>
                </a:solidFill>
                <a:latin typeface="Book Antiqua"/>
              </a:rPr>
              <a:t> - коттедж Бернса; 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Book Antiqua"/>
                <a:hlinkClick r:id="rId10"/>
              </a:rPr>
              <a:t>http://wpcontent.answcdn.com/wikipedia/commons/thumb/9/97/Robert_Burns_statue%</a:t>
            </a:r>
            <a:r>
              <a:rPr b="0" lang="ru-RU" sz="1400" spc="-1" strike="noStrike">
                <a:solidFill>
                  <a:srgbClr val="000000"/>
                </a:solidFill>
                <a:latin typeface="Book Antiqua"/>
              </a:rPr>
              <a:t> - стату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Book Antiqua"/>
              </a:rPr>
              <a:t>Слайд 15 - 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Book Antiqua"/>
                <a:hlinkClick r:id="rId11"/>
              </a:rPr>
              <a:t>http://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Book Antiqua"/>
                <a:hlinkClick r:id="rId12"/>
              </a:rPr>
              <a:t>yandex.ru/yandsearch?text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Book Antiqua"/>
                <a:hlinkClick r:id="rId13"/>
              </a:rPr>
              <a:t>=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Book Antiqua"/>
                <a:hlinkClick r:id="rId14"/>
              </a:rPr>
              <a:t>Burns+House+in+Dumfries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Book Antiqua"/>
                <a:hlinkClick r:id="rId15"/>
              </a:rPr>
              <a:t>%</a:t>
            </a:r>
            <a:r>
              <a:rPr b="0" lang="ru-RU" sz="1400" spc="-1" strike="noStrike">
                <a:solidFill>
                  <a:srgbClr val="000000"/>
                </a:solidFill>
                <a:latin typeface="Book Antiqua"/>
              </a:rPr>
              <a:t> - дом Бернса; 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Book Antiqua"/>
                <a:hlinkClick r:id="rId16"/>
              </a:rPr>
              <a:t>http://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Book Antiqua"/>
                <a:hlinkClick r:id="rId17"/>
              </a:rPr>
              <a:t>yandex.ru/yandsearch?text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Book Antiqua"/>
                <a:hlinkClick r:id="rId18"/>
              </a:rPr>
              <a:t>=Burns%27+monument+in+London&amp;lr=20192</a:t>
            </a:r>
            <a:r>
              <a:rPr b="0" lang="ru-RU" sz="1400" spc="-1" strike="noStrike">
                <a:solidFill>
                  <a:srgbClr val="000000"/>
                </a:solidFill>
                <a:latin typeface="Book Antiqua"/>
              </a:rPr>
              <a:t> – памятник Бернсу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rcRect l="18898" t="3720" r="0" b="8184"/>
          <a:stretch/>
        </p:blipFill>
        <p:spPr>
          <a:xfrm>
            <a:off x="5105520" y="228600"/>
            <a:ext cx="3894120" cy="42958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rcRect l="10902" t="8066" r="9691" b="6914"/>
          <a:stretch/>
        </p:blipFill>
        <p:spPr>
          <a:xfrm>
            <a:off x="152280" y="3505320"/>
            <a:ext cx="2722680" cy="30700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28600" y="990720"/>
            <a:ext cx="57150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2600" spc="-1" strike="noStrike">
                <a:solidFill>
                  <a:srgbClr val="984807"/>
                </a:solidFill>
                <a:latin typeface="Edwardian Script ITC"/>
              </a:rPr>
              <a:t>Literature </a:t>
            </a:r>
            <a:br>
              <a:rPr sz="12600"/>
            </a:br>
            <a:r>
              <a:rPr b="1" lang="en-US" sz="12600" spc="-1" strike="noStrike">
                <a:solidFill>
                  <a:srgbClr val="984807"/>
                </a:solidFill>
                <a:latin typeface="Edwardian Script ITC"/>
              </a:rPr>
              <a:t>Club</a:t>
            </a:r>
            <a:endParaRPr b="0" lang="en-US" sz="1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981080" y="4952880"/>
            <a:ext cx="71629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US" sz="3200" spc="-1" strike="noStrike">
                <a:solidFill>
                  <a:srgbClr val="984807"/>
                </a:solidFill>
                <a:latin typeface="Century"/>
              </a:rPr>
              <a:t>Gymnasium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dur="indefinite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1252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atch the authors and their works: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4507920" y="3288240"/>
            <a:ext cx="4129560" cy="1255320"/>
            <a:chOff x="4507920" y="3288240"/>
            <a:chExt cx="4129560" cy="1255320"/>
          </a:xfrm>
        </p:grpSpPr>
        <p:sp>
          <p:nvSpPr>
            <p:cNvPr id="50" name=""/>
            <p:cNvSpPr/>
            <p:nvPr/>
          </p:nvSpPr>
          <p:spPr>
            <a:xfrm>
              <a:off x="5068800" y="3619440"/>
              <a:ext cx="3568680" cy="546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9f5d5"/>
                </a:gs>
                <a:gs pos="100000">
                  <a:srgbClr val="f5eeb7"/>
                </a:gs>
              </a:gsLst>
              <a:lin ang="0"/>
            </a:gradFill>
            <a:ln cap="sq" w="38160">
              <a:solidFill>
                <a:srgbClr val="c5a6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419800" y="3649680"/>
              <a:ext cx="283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Winnie-the-Pooh”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" name=""/>
            <p:cNvGrpSpPr/>
            <p:nvPr/>
          </p:nvGrpSpPr>
          <p:grpSpPr>
            <a:xfrm>
              <a:off x="4507920" y="3288240"/>
              <a:ext cx="1251720" cy="1255320"/>
              <a:chOff x="4507920" y="3288240"/>
              <a:chExt cx="1251720" cy="1255320"/>
            </a:xfrm>
          </p:grpSpPr>
          <p:sp>
            <p:nvSpPr>
              <p:cNvPr id="53" name=""/>
              <p:cNvSpPr/>
              <p:nvPr/>
            </p:nvSpPr>
            <p:spPr>
              <a:xfrm rot="1740000">
                <a:off x="4695840" y="3483360"/>
                <a:ext cx="902520" cy="89748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1740000">
                <a:off x="4668840" y="3450960"/>
                <a:ext cx="904320" cy="897480"/>
              </a:xfrm>
              <a:prstGeom prst="ellipse">
                <a:avLst/>
              </a:prstGeom>
              <a:gradFill rotWithShape="0">
                <a:gsLst>
                  <a:gs pos="0">
                    <a:srgbClr val="a67a32"/>
                  </a:gs>
                  <a:gs pos="100000">
                    <a:srgbClr val="4d3817"/>
                  </a:gs>
                </a:gsLst>
                <a:lin ang="715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4753440" y="3503160"/>
                <a:ext cx="419400" cy="522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907880" y="360216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32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-99360" y="772560"/>
            <a:ext cx="4056840" cy="1245600"/>
            <a:chOff x="-99360" y="772560"/>
            <a:chExt cx="4056840" cy="1245600"/>
          </a:xfrm>
        </p:grpSpPr>
        <p:sp>
          <p:nvSpPr>
            <p:cNvPr id="58" name=""/>
            <p:cNvSpPr/>
            <p:nvPr/>
          </p:nvSpPr>
          <p:spPr>
            <a:xfrm>
              <a:off x="455760" y="1098720"/>
              <a:ext cx="3501720" cy="545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9f5d5"/>
                </a:gs>
                <a:gs pos="100000">
                  <a:srgbClr val="f5eeb7"/>
                </a:gs>
              </a:gsLst>
              <a:lin ang="0"/>
            </a:gradFill>
            <a:ln cap="sq" w="38160">
              <a:solidFill>
                <a:srgbClr val="74a73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98480" y="1128600"/>
              <a:ext cx="278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Kipling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" name=""/>
            <p:cNvGrpSpPr/>
            <p:nvPr/>
          </p:nvGrpSpPr>
          <p:grpSpPr>
            <a:xfrm>
              <a:off x="-99360" y="772560"/>
              <a:ext cx="1238040" cy="1245600"/>
              <a:chOff x="-99360" y="772560"/>
              <a:chExt cx="1238040" cy="1245600"/>
            </a:xfrm>
          </p:grpSpPr>
          <p:sp>
            <p:nvSpPr>
              <p:cNvPr id="61" name=""/>
              <p:cNvSpPr/>
              <p:nvPr/>
            </p:nvSpPr>
            <p:spPr>
              <a:xfrm rot="1740000">
                <a:off x="83160" y="965520"/>
                <a:ext cx="895320" cy="891360"/>
              </a:xfrm>
              <a:prstGeom prst="ellipse">
                <a:avLst/>
              </a:prstGeom>
              <a:gradFill rotWithShape="0">
                <a:gsLst>
                  <a:gs pos="0">
                    <a:srgbClr val="006600"/>
                  </a:gs>
                  <a:gs pos="100000">
                    <a:srgbClr val="002f00"/>
                  </a:gs>
                </a:gsLst>
                <a:lin ang="715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1740000">
                <a:off x="60120" y="933480"/>
                <a:ext cx="895320" cy="891360"/>
              </a:xfrm>
              <a:prstGeom prst="ellipse">
                <a:avLst/>
              </a:prstGeom>
              <a:gradFill rotWithShape="0">
                <a:gsLst>
                  <a:gs pos="0">
                    <a:srgbClr val="74a731"/>
                  </a:gs>
                  <a:gs pos="100000">
                    <a:srgbClr val="364d17"/>
                  </a:gs>
                </a:gsLst>
                <a:lin ang="715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141480" y="984240"/>
                <a:ext cx="414360" cy="5191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4" name=""/>
            <p:cNvSpPr/>
            <p:nvPr/>
          </p:nvSpPr>
          <p:spPr>
            <a:xfrm>
              <a:off x="326160" y="108108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32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4507560" y="1627560"/>
            <a:ext cx="4164480" cy="1262160"/>
            <a:chOff x="4507560" y="1627560"/>
            <a:chExt cx="4164480" cy="1262160"/>
          </a:xfrm>
        </p:grpSpPr>
        <p:sp>
          <p:nvSpPr>
            <p:cNvPr id="66" name=""/>
            <p:cNvSpPr/>
            <p:nvPr/>
          </p:nvSpPr>
          <p:spPr>
            <a:xfrm>
              <a:off x="5071680" y="1962000"/>
              <a:ext cx="3600360" cy="546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9f5d5"/>
                </a:gs>
                <a:gs pos="100000">
                  <a:srgbClr val="f5eeb7"/>
                </a:gs>
              </a:gsLst>
              <a:lin ang="0"/>
            </a:gradFill>
            <a:ln cap="sq" w="38160">
              <a:solidFill>
                <a:srgbClr val="c5a6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424120" y="1992240"/>
              <a:ext cx="2865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herlock Holmes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”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07560" y="1627560"/>
              <a:ext cx="1257480" cy="1262160"/>
              <a:chOff x="4507560" y="1627560"/>
              <a:chExt cx="1257480" cy="1262160"/>
            </a:xfrm>
          </p:grpSpPr>
          <p:sp>
            <p:nvSpPr>
              <p:cNvPr id="69" name=""/>
              <p:cNvSpPr/>
              <p:nvPr/>
            </p:nvSpPr>
            <p:spPr>
              <a:xfrm rot="1740000">
                <a:off x="4691880" y="1824840"/>
                <a:ext cx="911880" cy="9003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1740000">
                <a:off x="4668480" y="1792080"/>
                <a:ext cx="912600" cy="900360"/>
              </a:xfrm>
              <a:prstGeom prst="ellipse">
                <a:avLst/>
              </a:prstGeom>
              <a:gradFill rotWithShape="0">
                <a:gsLst>
                  <a:gs pos="0">
                    <a:srgbClr val="a67a32"/>
                  </a:gs>
                  <a:gs pos="100000">
                    <a:srgbClr val="4d3817"/>
                  </a:gs>
                </a:gsLst>
                <a:lin ang="715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71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4751640" y="1843920"/>
                <a:ext cx="423360" cy="5241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72" name=""/>
            <p:cNvSpPr/>
            <p:nvPr/>
          </p:nvSpPr>
          <p:spPr>
            <a:xfrm>
              <a:off x="4910400" y="194472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32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"/>
          <p:cNvGrpSpPr/>
          <p:nvPr/>
        </p:nvGrpSpPr>
        <p:grpSpPr>
          <a:xfrm>
            <a:off x="4507920" y="716040"/>
            <a:ext cx="3845160" cy="1212480"/>
            <a:chOff x="4507920" y="716040"/>
            <a:chExt cx="3845160" cy="1212480"/>
          </a:xfrm>
        </p:grpSpPr>
        <p:sp>
          <p:nvSpPr>
            <p:cNvPr id="74" name=""/>
            <p:cNvSpPr/>
            <p:nvPr/>
          </p:nvSpPr>
          <p:spPr>
            <a:xfrm>
              <a:off x="5048280" y="1027080"/>
              <a:ext cx="3304800" cy="546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9f5d5"/>
                </a:gs>
                <a:gs pos="100000">
                  <a:srgbClr val="f5eeb7"/>
                </a:gs>
              </a:gsLst>
              <a:lin ang="0"/>
            </a:gradFill>
            <a:ln cap="sq" w="38160">
              <a:solidFill>
                <a:srgbClr val="c5a6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72280" y="1057320"/>
              <a:ext cx="2629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White Fang”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 Black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6" name=""/>
            <p:cNvGrpSpPr/>
            <p:nvPr/>
          </p:nvGrpSpPr>
          <p:grpSpPr>
            <a:xfrm>
              <a:off x="4507920" y="716040"/>
              <a:ext cx="1200600" cy="1212480"/>
              <a:chOff x="4507920" y="716040"/>
              <a:chExt cx="1200600" cy="1212480"/>
            </a:xfrm>
          </p:grpSpPr>
          <p:sp>
            <p:nvSpPr>
              <p:cNvPr id="77" name=""/>
              <p:cNvSpPr/>
              <p:nvPr/>
            </p:nvSpPr>
            <p:spPr>
              <a:xfrm rot="1740000">
                <a:off x="4689720" y="901080"/>
                <a:ext cx="861120" cy="8730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740000">
                <a:off x="4665600" y="869760"/>
                <a:ext cx="861120" cy="873000"/>
              </a:xfrm>
              <a:prstGeom prst="ellipse">
                <a:avLst/>
              </a:prstGeom>
              <a:gradFill rotWithShape="0">
                <a:gsLst>
                  <a:gs pos="0">
                    <a:srgbClr val="a67a32"/>
                  </a:gs>
                  <a:gs pos="100000">
                    <a:srgbClr val="4d3817"/>
                  </a:gs>
                </a:gsLst>
                <a:lin ang="715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79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744440" y="922320"/>
                <a:ext cx="398520" cy="5079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80" name=""/>
            <p:cNvSpPr/>
            <p:nvPr/>
          </p:nvSpPr>
          <p:spPr>
            <a:xfrm>
              <a:off x="4882320" y="100980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32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4508640" y="5068800"/>
            <a:ext cx="4383000" cy="1294560"/>
            <a:chOff x="4508640" y="5068800"/>
            <a:chExt cx="4383000" cy="1294560"/>
          </a:xfrm>
        </p:grpSpPr>
        <p:sp>
          <p:nvSpPr>
            <p:cNvPr id="82" name=""/>
            <p:cNvSpPr/>
            <p:nvPr/>
          </p:nvSpPr>
          <p:spPr>
            <a:xfrm>
              <a:off x="5087880" y="5419800"/>
              <a:ext cx="3803760" cy="546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9f5d5"/>
                </a:gs>
                <a:gs pos="100000">
                  <a:srgbClr val="f5eeb7"/>
                </a:gs>
              </a:gsLst>
              <a:lin ang="0"/>
            </a:gradFill>
            <a:ln cap="sq" w="38160">
              <a:solidFill>
                <a:srgbClr val="c5a6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460840" y="5450040"/>
              <a:ext cx="302580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23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0" lang="ru-RU" sz="2300" spc="-1" strike="noStrike">
                  <a:solidFill>
                    <a:srgbClr val="000000"/>
                  </a:solidFill>
                  <a:latin typeface="Arial"/>
                </a:rPr>
                <a:t>Alice in Wonderland”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4" name=""/>
            <p:cNvGrpSpPr/>
            <p:nvPr/>
          </p:nvGrpSpPr>
          <p:grpSpPr>
            <a:xfrm>
              <a:off x="4508640" y="5068800"/>
              <a:ext cx="1296360" cy="1294560"/>
              <a:chOff x="4508640" y="5068800"/>
              <a:chExt cx="1296360" cy="1294560"/>
            </a:xfrm>
          </p:grpSpPr>
          <p:sp>
            <p:nvSpPr>
              <p:cNvPr id="85" name=""/>
              <p:cNvSpPr/>
              <p:nvPr/>
            </p:nvSpPr>
            <p:spPr>
              <a:xfrm rot="1740000">
                <a:off x="4696560" y="5272920"/>
                <a:ext cx="944640" cy="91908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40000">
                <a:off x="4671720" y="5240160"/>
                <a:ext cx="944640" cy="918720"/>
              </a:xfrm>
              <a:prstGeom prst="ellipse">
                <a:avLst/>
              </a:prstGeom>
              <a:gradFill rotWithShape="0">
                <a:gsLst>
                  <a:gs pos="0">
                    <a:srgbClr val="a67a32"/>
                  </a:gs>
                  <a:gs pos="100000">
                    <a:srgbClr val="4d3817"/>
                  </a:gs>
                </a:gsLst>
                <a:lin ang="715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87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757400" y="5293080"/>
                <a:ext cx="437760" cy="5342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88" name=""/>
            <p:cNvSpPr/>
            <p:nvPr/>
          </p:nvSpPr>
          <p:spPr>
            <a:xfrm>
              <a:off x="4952160" y="5402160"/>
              <a:ext cx="42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3200" spc="-1" strike="noStrike">
                  <a:solidFill>
                    <a:srgbClr val="ffffff"/>
                  </a:solidFill>
                  <a:latin typeface="Arial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"/>
          <p:cNvGrpSpPr/>
          <p:nvPr/>
        </p:nvGrpSpPr>
        <p:grpSpPr>
          <a:xfrm>
            <a:off x="4579200" y="2482200"/>
            <a:ext cx="4310280" cy="1283760"/>
            <a:chOff x="4579200" y="2482200"/>
            <a:chExt cx="4310280" cy="1283760"/>
          </a:xfrm>
        </p:grpSpPr>
        <p:sp>
          <p:nvSpPr>
            <p:cNvPr id="90" name=""/>
            <p:cNvSpPr/>
            <p:nvPr/>
          </p:nvSpPr>
          <p:spPr>
            <a:xfrm>
              <a:off x="5153040" y="2827440"/>
              <a:ext cx="3736440" cy="546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9f5d5"/>
                </a:gs>
                <a:gs pos="100000">
                  <a:srgbClr val="f5eeb7"/>
                </a:gs>
              </a:gsLst>
              <a:lin ang="0"/>
            </a:gradFill>
            <a:ln cap="sq" w="38160">
              <a:solidFill>
                <a:srgbClr val="c5a6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519880" y="2857680"/>
              <a:ext cx="2973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ikki –Tikki -Tavi”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2" name=""/>
            <p:cNvGrpSpPr/>
            <p:nvPr/>
          </p:nvGrpSpPr>
          <p:grpSpPr>
            <a:xfrm>
              <a:off x="4579200" y="2482200"/>
              <a:ext cx="1283760" cy="1283760"/>
              <a:chOff x="4579200" y="2482200"/>
              <a:chExt cx="1283760" cy="1283760"/>
            </a:xfrm>
          </p:grpSpPr>
          <p:sp>
            <p:nvSpPr>
              <p:cNvPr id="93" name=""/>
              <p:cNvSpPr/>
              <p:nvPr/>
            </p:nvSpPr>
            <p:spPr>
              <a:xfrm rot="1740000">
                <a:off x="4766760" y="2683800"/>
                <a:ext cx="933120" cy="9129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740000">
                <a:off x="4741560" y="2651040"/>
                <a:ext cx="933120" cy="912960"/>
              </a:xfrm>
              <a:prstGeom prst="ellipse">
                <a:avLst/>
              </a:prstGeom>
              <a:gradFill rotWithShape="0">
                <a:gsLst>
                  <a:gs pos="0">
                    <a:srgbClr val="a67a32"/>
                  </a:gs>
                  <a:gs pos="100000">
                    <a:srgbClr val="4d3817"/>
                  </a:gs>
                </a:gsLst>
                <a:lin ang="715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9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4827960" y="2703600"/>
                <a:ext cx="431640" cy="531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96" name=""/>
            <p:cNvSpPr/>
            <p:nvPr/>
          </p:nvSpPr>
          <p:spPr>
            <a:xfrm>
              <a:off x="4996800" y="280980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3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-101520" y="3406320"/>
            <a:ext cx="4454280" cy="1304640"/>
            <a:chOff x="-101520" y="3406320"/>
            <a:chExt cx="4454280" cy="1304640"/>
          </a:xfrm>
        </p:grpSpPr>
        <p:sp>
          <p:nvSpPr>
            <p:cNvPr id="98" name=""/>
            <p:cNvSpPr/>
            <p:nvPr/>
          </p:nvSpPr>
          <p:spPr>
            <a:xfrm>
              <a:off x="484200" y="3762360"/>
              <a:ext cx="3868560" cy="546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9f5d5"/>
                </a:gs>
                <a:gs pos="100000">
                  <a:srgbClr val="f5eeb7"/>
                </a:gs>
              </a:gsLst>
              <a:lin ang="0"/>
            </a:gradFill>
            <a:ln cap="sq" w="38160">
              <a:solidFill>
                <a:srgbClr val="74a73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63640" y="3792600"/>
              <a:ext cx="3079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Arthur Conan Doyle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-101520" y="3406320"/>
              <a:ext cx="1310400" cy="1304640"/>
              <a:chOff x="-101520" y="3406320"/>
              <a:chExt cx="1310400" cy="1304640"/>
            </a:xfrm>
          </p:grpSpPr>
          <p:sp>
            <p:nvSpPr>
              <p:cNvPr id="101" name=""/>
              <p:cNvSpPr/>
              <p:nvPr/>
            </p:nvSpPr>
            <p:spPr>
              <a:xfrm rot="1740000">
                <a:off x="90000" y="3610800"/>
                <a:ext cx="953640" cy="927000"/>
              </a:xfrm>
              <a:prstGeom prst="ellipse">
                <a:avLst/>
              </a:prstGeom>
              <a:gradFill rotWithShape="0">
                <a:gsLst>
                  <a:gs pos="0">
                    <a:srgbClr val="006600"/>
                  </a:gs>
                  <a:gs pos="100000">
                    <a:srgbClr val="002f00"/>
                  </a:gs>
                </a:gsLst>
                <a:lin ang="715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740000">
                <a:off x="63360" y="3579840"/>
                <a:ext cx="956160" cy="927360"/>
              </a:xfrm>
              <a:prstGeom prst="ellipse">
                <a:avLst/>
              </a:prstGeom>
              <a:gradFill rotWithShape="0">
                <a:gsLst>
                  <a:gs pos="0">
                    <a:srgbClr val="74a731"/>
                  </a:gs>
                  <a:gs pos="100000">
                    <a:srgbClr val="364d17"/>
                  </a:gs>
                </a:gsLst>
                <a:lin ang="715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52640" y="3633120"/>
                <a:ext cx="443880" cy="5392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04" name=""/>
            <p:cNvSpPr/>
            <p:nvPr/>
          </p:nvSpPr>
          <p:spPr>
            <a:xfrm>
              <a:off x="362880" y="374508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32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-28080" y="4299480"/>
            <a:ext cx="4057200" cy="1245960"/>
            <a:chOff x="-28080" y="4299480"/>
            <a:chExt cx="4057200" cy="1245960"/>
          </a:xfrm>
        </p:grpSpPr>
        <p:sp>
          <p:nvSpPr>
            <p:cNvPr id="106" name=""/>
            <p:cNvSpPr/>
            <p:nvPr/>
          </p:nvSpPr>
          <p:spPr>
            <a:xfrm>
              <a:off x="527040" y="4627440"/>
              <a:ext cx="3502080" cy="546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9f5d5"/>
                </a:gs>
                <a:gs pos="100000">
                  <a:srgbClr val="f5eeb7"/>
                </a:gs>
              </a:gsLst>
              <a:lin ang="0"/>
            </a:gradFill>
            <a:ln cap="sq" w="38160">
              <a:solidFill>
                <a:srgbClr val="74a73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70120" y="4657680"/>
              <a:ext cx="278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A.A.Milne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-28080" y="4299480"/>
              <a:ext cx="1237320" cy="1245960"/>
              <a:chOff x="-28080" y="4299480"/>
              <a:chExt cx="1237320" cy="1245960"/>
            </a:xfrm>
          </p:grpSpPr>
          <p:sp>
            <p:nvSpPr>
              <p:cNvPr id="109" name=""/>
              <p:cNvSpPr/>
              <p:nvPr/>
            </p:nvSpPr>
            <p:spPr>
              <a:xfrm rot="1740000">
                <a:off x="155160" y="4492800"/>
                <a:ext cx="893520" cy="891720"/>
              </a:xfrm>
              <a:prstGeom prst="ellipse">
                <a:avLst/>
              </a:prstGeom>
              <a:gradFill rotWithShape="0">
                <a:gsLst>
                  <a:gs pos="0">
                    <a:srgbClr val="006600"/>
                  </a:gs>
                  <a:gs pos="100000">
                    <a:srgbClr val="002f00"/>
                  </a:gs>
                </a:gsLst>
                <a:lin ang="715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740000">
                <a:off x="131400" y="4460760"/>
                <a:ext cx="896040" cy="891360"/>
              </a:xfrm>
              <a:prstGeom prst="ellipse">
                <a:avLst/>
              </a:prstGeom>
              <a:gradFill rotWithShape="0">
                <a:gsLst>
                  <a:gs pos="0">
                    <a:srgbClr val="74a731"/>
                  </a:gs>
                  <a:gs pos="100000">
                    <a:srgbClr val="364d17"/>
                  </a:gs>
                </a:gsLst>
                <a:lin ang="715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3480" y="4514040"/>
                <a:ext cx="414360" cy="5184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2" name=""/>
            <p:cNvSpPr/>
            <p:nvPr/>
          </p:nvSpPr>
          <p:spPr>
            <a:xfrm>
              <a:off x="397800" y="461016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32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-28080" y="1707120"/>
            <a:ext cx="4057200" cy="1245960"/>
            <a:chOff x="-28080" y="1707120"/>
            <a:chExt cx="4057200" cy="1245960"/>
          </a:xfrm>
        </p:grpSpPr>
        <p:sp>
          <p:nvSpPr>
            <p:cNvPr id="114" name=""/>
            <p:cNvSpPr/>
            <p:nvPr/>
          </p:nvSpPr>
          <p:spPr>
            <a:xfrm>
              <a:off x="527040" y="2035080"/>
              <a:ext cx="3502080" cy="546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9f5d5"/>
                </a:gs>
                <a:gs pos="100000">
                  <a:srgbClr val="f5eeb7"/>
                </a:gs>
              </a:gsLst>
              <a:lin ang="0"/>
            </a:gradFill>
            <a:ln cap="sq" w="38160">
              <a:solidFill>
                <a:srgbClr val="74a73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870120" y="2065320"/>
              <a:ext cx="278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efo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" name=""/>
            <p:cNvGrpSpPr/>
            <p:nvPr/>
          </p:nvGrpSpPr>
          <p:grpSpPr>
            <a:xfrm>
              <a:off x="-28080" y="1707120"/>
              <a:ext cx="1237320" cy="1245960"/>
              <a:chOff x="-28080" y="1707120"/>
              <a:chExt cx="1237320" cy="1245960"/>
            </a:xfrm>
          </p:grpSpPr>
          <p:sp>
            <p:nvSpPr>
              <p:cNvPr id="117" name=""/>
              <p:cNvSpPr/>
              <p:nvPr/>
            </p:nvSpPr>
            <p:spPr>
              <a:xfrm rot="1740000">
                <a:off x="155160" y="1900440"/>
                <a:ext cx="893520" cy="891720"/>
              </a:xfrm>
              <a:prstGeom prst="ellipse">
                <a:avLst/>
              </a:prstGeom>
              <a:gradFill rotWithShape="0">
                <a:gsLst>
                  <a:gs pos="0">
                    <a:srgbClr val="006600"/>
                  </a:gs>
                  <a:gs pos="100000">
                    <a:srgbClr val="002f00"/>
                  </a:gs>
                </a:gsLst>
                <a:lin ang="715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1740000">
                <a:off x="131400" y="1868400"/>
                <a:ext cx="896040" cy="891360"/>
              </a:xfrm>
              <a:prstGeom prst="ellipse">
                <a:avLst/>
              </a:prstGeom>
              <a:gradFill rotWithShape="0">
                <a:gsLst>
                  <a:gs pos="0">
                    <a:srgbClr val="74a731"/>
                  </a:gs>
                  <a:gs pos="100000">
                    <a:srgbClr val="364d17"/>
                  </a:gs>
                </a:gsLst>
                <a:lin ang="715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9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13480" y="1921680"/>
                <a:ext cx="414360" cy="5184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20" name=""/>
            <p:cNvSpPr/>
            <p:nvPr/>
          </p:nvSpPr>
          <p:spPr>
            <a:xfrm>
              <a:off x="397800" y="201780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32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-28080" y="5163120"/>
            <a:ext cx="4057200" cy="1245960"/>
            <a:chOff x="-28080" y="5163120"/>
            <a:chExt cx="4057200" cy="1245960"/>
          </a:xfrm>
        </p:grpSpPr>
        <p:sp>
          <p:nvSpPr>
            <p:cNvPr id="122" name=""/>
            <p:cNvSpPr/>
            <p:nvPr/>
          </p:nvSpPr>
          <p:spPr>
            <a:xfrm>
              <a:off x="527040" y="5491080"/>
              <a:ext cx="3502080" cy="546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9f5d5"/>
                </a:gs>
                <a:gs pos="100000">
                  <a:srgbClr val="f5eeb7"/>
                </a:gs>
              </a:gsLst>
              <a:lin ang="0"/>
            </a:gradFill>
            <a:ln cap="sq" w="38160">
              <a:solidFill>
                <a:srgbClr val="74a73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870120" y="5521320"/>
              <a:ext cx="278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L.Carrol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4" name=""/>
            <p:cNvGrpSpPr/>
            <p:nvPr/>
          </p:nvGrpSpPr>
          <p:grpSpPr>
            <a:xfrm>
              <a:off x="-28080" y="5163120"/>
              <a:ext cx="1237320" cy="1245960"/>
              <a:chOff x="-28080" y="5163120"/>
              <a:chExt cx="1237320" cy="1245960"/>
            </a:xfrm>
          </p:grpSpPr>
          <p:sp>
            <p:nvSpPr>
              <p:cNvPr id="125" name=""/>
              <p:cNvSpPr/>
              <p:nvPr/>
            </p:nvSpPr>
            <p:spPr>
              <a:xfrm rot="1740000">
                <a:off x="155160" y="5356440"/>
                <a:ext cx="893520" cy="891720"/>
              </a:xfrm>
              <a:prstGeom prst="ellipse">
                <a:avLst/>
              </a:prstGeom>
              <a:gradFill rotWithShape="0">
                <a:gsLst>
                  <a:gs pos="0">
                    <a:srgbClr val="006600"/>
                  </a:gs>
                  <a:gs pos="100000">
                    <a:srgbClr val="002f00"/>
                  </a:gs>
                </a:gsLst>
                <a:lin ang="715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40000">
                <a:off x="131400" y="5324400"/>
                <a:ext cx="896040" cy="891360"/>
              </a:xfrm>
              <a:prstGeom prst="ellipse">
                <a:avLst/>
              </a:prstGeom>
              <a:gradFill rotWithShape="0">
                <a:gsLst>
                  <a:gs pos="0">
                    <a:srgbClr val="74a731"/>
                  </a:gs>
                  <a:gs pos="100000">
                    <a:srgbClr val="364d17"/>
                  </a:gs>
                </a:gsLst>
                <a:lin ang="715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7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13480" y="5377680"/>
                <a:ext cx="414360" cy="5184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28" name=""/>
            <p:cNvSpPr/>
            <p:nvPr/>
          </p:nvSpPr>
          <p:spPr>
            <a:xfrm>
              <a:off x="397800" y="547380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32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-28440" y="2500920"/>
            <a:ext cx="4057560" cy="1245240"/>
            <a:chOff x="-28440" y="2500920"/>
            <a:chExt cx="4057560" cy="1245240"/>
          </a:xfrm>
        </p:grpSpPr>
        <p:sp>
          <p:nvSpPr>
            <p:cNvPr id="130" name=""/>
            <p:cNvSpPr/>
            <p:nvPr/>
          </p:nvSpPr>
          <p:spPr>
            <a:xfrm>
              <a:off x="527040" y="2827440"/>
              <a:ext cx="3502080" cy="546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9f5d5"/>
                </a:gs>
                <a:gs pos="100000">
                  <a:srgbClr val="f5eeb7"/>
                </a:gs>
              </a:gsLst>
              <a:lin ang="0"/>
            </a:gradFill>
            <a:ln cap="sq" w="38160">
              <a:solidFill>
                <a:srgbClr val="74a73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70120" y="2857680"/>
              <a:ext cx="278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Jack London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2" name=""/>
            <p:cNvGrpSpPr/>
            <p:nvPr/>
          </p:nvGrpSpPr>
          <p:grpSpPr>
            <a:xfrm>
              <a:off x="-28440" y="2500920"/>
              <a:ext cx="1238040" cy="1245240"/>
              <a:chOff x="-28440" y="2500920"/>
              <a:chExt cx="1238040" cy="1245240"/>
            </a:xfrm>
          </p:grpSpPr>
          <p:sp>
            <p:nvSpPr>
              <p:cNvPr id="133" name=""/>
              <p:cNvSpPr/>
              <p:nvPr/>
            </p:nvSpPr>
            <p:spPr>
              <a:xfrm rot="1740000">
                <a:off x="155160" y="2692080"/>
                <a:ext cx="893520" cy="893520"/>
              </a:xfrm>
              <a:prstGeom prst="ellipse">
                <a:avLst/>
              </a:prstGeom>
              <a:gradFill rotWithShape="0">
                <a:gsLst>
                  <a:gs pos="0">
                    <a:srgbClr val="006600"/>
                  </a:gs>
                  <a:gs pos="100000">
                    <a:srgbClr val="002f00"/>
                  </a:gs>
                </a:gsLst>
                <a:lin ang="715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740000">
                <a:off x="131760" y="2661840"/>
                <a:ext cx="896040" cy="893520"/>
              </a:xfrm>
              <a:prstGeom prst="ellipse">
                <a:avLst/>
              </a:prstGeom>
              <a:gradFill rotWithShape="0">
                <a:gsLst>
                  <a:gs pos="0">
                    <a:srgbClr val="74a731"/>
                  </a:gs>
                  <a:gs pos="100000">
                    <a:srgbClr val="364d17"/>
                  </a:gs>
                </a:gsLst>
                <a:lin ang="715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35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213480" y="2713680"/>
                <a:ext cx="414360" cy="5198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36" name=""/>
            <p:cNvSpPr/>
            <p:nvPr/>
          </p:nvSpPr>
          <p:spPr>
            <a:xfrm>
              <a:off x="397800" y="280980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32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4579920" y="4214880"/>
            <a:ext cx="4238280" cy="1272240"/>
            <a:chOff x="4579920" y="4214880"/>
            <a:chExt cx="4238280" cy="1272240"/>
          </a:xfrm>
        </p:grpSpPr>
        <p:sp>
          <p:nvSpPr>
            <p:cNvPr id="138" name=""/>
            <p:cNvSpPr/>
            <p:nvPr/>
          </p:nvSpPr>
          <p:spPr>
            <a:xfrm>
              <a:off x="5148360" y="4554360"/>
              <a:ext cx="3669840" cy="546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9f5d5"/>
                </a:gs>
                <a:gs pos="100000">
                  <a:srgbClr val="f5eeb7"/>
                </a:gs>
              </a:gsLst>
              <a:lin ang="0"/>
            </a:gradFill>
            <a:ln cap="sq" w="38160">
              <a:solidFill>
                <a:srgbClr val="c5a6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508720" y="4584600"/>
              <a:ext cx="2919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Robinson Crusoe”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0" name=""/>
            <p:cNvGrpSpPr/>
            <p:nvPr/>
          </p:nvGrpSpPr>
          <p:grpSpPr>
            <a:xfrm>
              <a:off x="4579920" y="4214880"/>
              <a:ext cx="1271160" cy="1272240"/>
              <a:chOff x="4579920" y="4214880"/>
              <a:chExt cx="1271160" cy="1272240"/>
            </a:xfrm>
          </p:grpSpPr>
          <p:sp>
            <p:nvSpPr>
              <p:cNvPr id="141" name=""/>
              <p:cNvSpPr/>
              <p:nvPr/>
            </p:nvSpPr>
            <p:spPr>
              <a:xfrm rot="1740000">
                <a:off x="4766760" y="4413960"/>
                <a:ext cx="922320" cy="90648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 rot="1740000">
                <a:off x="4741920" y="4381200"/>
                <a:ext cx="921960" cy="906480"/>
              </a:xfrm>
              <a:prstGeom prst="ellipse">
                <a:avLst/>
              </a:prstGeom>
              <a:gradFill rotWithShape="0">
                <a:gsLst>
                  <a:gs pos="0">
                    <a:srgbClr val="a67a32"/>
                  </a:gs>
                  <a:gs pos="100000">
                    <a:srgbClr val="4d3817"/>
                  </a:gs>
                </a:gsLst>
                <a:lin ang="715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3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4825800" y="4433400"/>
                <a:ext cx="426240" cy="5277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44" name=""/>
            <p:cNvSpPr/>
            <p:nvPr/>
          </p:nvSpPr>
          <p:spPr>
            <a:xfrm>
              <a:off x="5000040" y="453708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32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dur="indefinite" fill="hold">
                      <p:stCondLst>
                        <p:cond delay="indefinite"/>
                      </p:stCondLst>
                      <p:childTnLst>
                        <p:par>
                          <p:cTn id="2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 -7 L 4.44444 -6 L 0.00017 -0.25996 E">
                                      <p:cBhvr>
                                        <p:cTn id="24" dur="2000" fill="hold"/>
                                        <p:tgtEl>
                                          <p:spTgt spid="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351 0.00255 L 0.04323 0.7294 E">
                                      <p:cBhvr>
                                        <p:cTn id="26" dur="2000" fill="hold"/>
                                        <p:tgtEl>
                                          <p:spTgt spid="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fill="hold">
                      <p:stCondLst>
                        <p:cond delay="indefinite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 -6 L 2.59259 -6 L -0.00382 -0.38588 E">
                                      <p:cBhvr>
                                        <p:cTn id="30" dur="2000" fill="hold"/>
                                        <p:tgtEl>
                                          <p:spTgt spid="1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99 -0.00787 L 0.01598 0.37268 E">
                                      <p:cBhvr>
                                        <p:cTn id="32" dur="2000" fill="hold"/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dur="indefinite" fill="hold">
                      <p:stCondLst>
                        <p:cond delay="indefinite"/>
                      </p:stCondLst>
                      <p:childTnLst>
                        <p:par>
                          <p:cTn id="3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351 0.00255 L 0.03542 0.26759 E">
                                      <p:cBhvr>
                                        <p:cTn id="36" dur="2000" fill="hold"/>
                                        <p:tgtEl>
                                          <p:spTgt spid="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fill="hold">
                      <p:stCondLst>
                        <p:cond delay="indefinite"/>
                      </p:stCondLst>
                      <p:childTnLst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99 -0.00787 L 0.00018 0.23634 E">
                                      <p:cBhvr>
                                        <p:cTn id="40" dur="2000" fill="hold"/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208 -0.00533 L 0.00416 0.12315 E">
                                      <p:cBhvr>
                                        <p:cTn id="42" dur="2000" fill="hold"/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149880" y="3851280"/>
            <a:ext cx="2921040" cy="291636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>
            <a:off x="90360" y="144360"/>
            <a:ext cx="2646360" cy="29527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4"/>
          <a:stretch/>
        </p:blipFill>
        <p:spPr>
          <a:xfrm>
            <a:off x="2809800" y="144360"/>
            <a:ext cx="3094200" cy="376236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5"/>
          <a:stretch/>
        </p:blipFill>
        <p:spPr>
          <a:xfrm>
            <a:off x="5978520" y="125280"/>
            <a:ext cx="3092400" cy="361800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71280" y="3240000"/>
            <a:ext cx="3816360" cy="352764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3095640" y="3240000"/>
            <a:ext cx="3095640" cy="36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44360" y="1584360"/>
            <a:ext cx="862344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Стихотворение «Прощание»</a:t>
            </a:r>
            <a:br>
              <a:rPr sz="2600"/>
            </a:b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Беллы Ахмадуллиной было </a:t>
            </a:r>
            <a:br>
              <a:rPr sz="2600"/>
            </a:b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положено на музыку, именно </a:t>
            </a:r>
            <a:br>
              <a:rPr sz="2600"/>
            </a:b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таконо прозвучало в фильме </a:t>
            </a:r>
            <a:br>
              <a:rPr sz="2600"/>
            </a:b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Эльдара Рязанова </a:t>
            </a:r>
            <a:br>
              <a:rPr sz="2600"/>
            </a:b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«Жестокий романс».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Творческий талант Беллы Ахмадуллиной проявлялся не только в поэзии, но и в кинематографе. Она снялась в роли журналистки в фильме  Василия Шукшина «Живёт такой парень» и написала сценарии к другим кинокартинам.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5472000" y="216000"/>
            <a:ext cx="3467160" cy="381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228600" y="380880"/>
            <a:ext cx="8686800" cy="185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        </a:t>
            </a:r>
            <a:br>
              <a:rPr sz="18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5616720" y="2303640"/>
            <a:ext cx="3456000" cy="446400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71280" y="1655640"/>
            <a:ext cx="86868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    </a:t>
            </a: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В 1962 году по просьбе президента США Дж. Кеннеди Фрост посетил СССР в качестве «посла доброй воли» и был тепло принят в Союзе писателей СССР. На вопрос журналиста, не находит ли он затруднительным общаться с советскими людьми, не зная 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русского языка, ответил: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«Но ведь мы смеёмся 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на одном языке!»</a:t>
            </a: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Роберт Фрост был номинирован 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на Нобелевскую премию 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в области литературы 31 раз!</a:t>
            </a:r>
            <a:br>
              <a:rPr sz="2200"/>
            </a:b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69920" y="1407960"/>
            <a:ext cx="868680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     </a:t>
            </a: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Талант художника у Гюго 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проявился даже раньше, 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чем его литературные 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способности, он начал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рисовать в возрасте 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8 лет. Большинство его 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набросков выполнено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карандашом и тушью. 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На сегодняшний день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в частных и 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государственных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коллекциях 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насчитывается 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около 4000 графических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работ Виктора Гюго.</a:t>
            </a:r>
            <a:br>
              <a:rPr sz="2200"/>
            </a:b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4678200" y="576360"/>
            <a:ext cx="4176720" cy="576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5400720" y="576360"/>
            <a:ext cx="3600360" cy="55432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144360" y="1278000"/>
            <a:ext cx="8675640" cy="44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Гёте был гениальным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человеком,способным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овладеть любым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знаниями или умениями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он говорил на 5 языках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знал ботанику, анатомию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политику и философию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Кроме того, он был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великолепным танцором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и питал страсть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к античной литературе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13T11:43:47Z</dcterms:created>
  <dc:creator>Елена</dc:creator>
  <dc:description/>
  <dc:language>en-US</dc:language>
  <cp:lastModifiedBy/>
  <dcterms:modified xsi:type="dcterms:W3CDTF">2023-11-29T06:52:46Z</dcterms:modified>
  <cp:revision>72</cp:revision>
  <dc:subject/>
  <dc:title>КОНКУРС ЧТЕЦОВ АНГЛИЙСКОЙ ПОЭЗИИ</dc:title>
</cp:coreProperties>
</file>